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jpeg" ContentType="image/jpeg"/>
  <Override PartName="/ppt/media/image23.jpeg" ContentType="image/jpeg"/>
  <Override PartName="/ppt/media/image21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17.jpeg" ContentType="image/jpeg"/>
  <Override PartName="/ppt/media/image3.png" ContentType="image/png"/>
  <Override PartName="/ppt/media/image25.jpeg" ContentType="image/jpeg"/>
  <Override PartName="/ppt/media/image2.png" ContentType="image/png"/>
  <Override PartName="/ppt/media/image4.jpeg" ContentType="image/jpeg"/>
  <Override PartName="/ppt/media/image26.jpeg" ContentType="image/jpeg"/>
  <Override PartName="/ppt/media/image5.jpeg" ContentType="image/jpeg"/>
  <Override PartName="/ppt/media/image31.jpeg" ContentType="image/jpeg"/>
  <Override PartName="/ppt/media/image33.jpeg" ContentType="image/jpeg"/>
  <Override PartName="/ppt/media/image6.jpeg" ContentType="image/jpeg"/>
  <Override PartName="/ppt/media/image20.png" ContentType="image/png"/>
  <Override PartName="/ppt/media/image28.jpeg" ContentType="image/jpeg"/>
  <Override PartName="/ppt/media/image36.png" ContentType="image/png"/>
  <Override PartName="/ppt/media/image43.jpeg" ContentType="image/jpeg"/>
  <Override PartName="/ppt/media/image34.jpeg" ContentType="image/jpeg"/>
  <Override PartName="/ppt/media/image37.png" ContentType="image/pn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46.png" ContentType="image/png"/>
  <Override PartName="/ppt/media/image47.jpeg" ContentType="image/jpeg"/>
  <Override PartName="/ppt/media/image32.jpeg" ContentType="image/jpeg"/>
  <Override PartName="/ppt/media/image48.gif" ContentType="image/gif"/>
  <Override PartName="/ppt/media/image49.jpeg" ContentType="image/jpeg"/>
  <Override PartName="/ppt/media/image30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27.jpeg" ContentType="image/jpeg"/>
  <Override PartName="/ppt/media/image50.jpeg" ContentType="image/jpeg"/>
  <Override PartName="/ppt/media/image11.jpeg" ContentType="image/jpeg"/>
  <Override PartName="/ppt/media/image9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7B941-CC91-443A-89F1-A5D5959A2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AF63D-C64D-4F5C-B859-4BE5E39D8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5F1FA-8025-42D5-BB9B-77426CD15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4D47F-A893-45EE-8E86-1438F736A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FDC74-907C-4A4B-A028-655FBA488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A9FF6-13EB-49A8-90A0-A18EDCE36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5CED9-E785-42B5-A91B-49EFC4F5F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6FD58-E8BF-4427-B827-705AC497F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68D5C-C11D-4B6B-ABAB-2E559BAAD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BC5F6-D2D6-4CE2-BFD4-EE1CC2AAD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FAFB0-13B6-4298-A189-E69F366B9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058EB-2ED3-445C-A99D-2FE181B9B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C68B9-86C8-498E-B3AF-7629A98E5C0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travel.sohu.com/20080513/n256825285.shtml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bbs.sina.com.cn/zt/w/08/wendizhen/index.shtml" TargetMode="External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hyperlink" Target="http://sz.photo.store.qq.com/rurl2=16d72a2e9482c2740b774a2de14328307e2df2e9b88d743ea5178cb430f8875d7e0a2d387ad5a87e7421e740a38b191a37ece0ef504460414f437b18dfefe0a64fcca1a2974ec7f16d0da88d5e4d398ff148a529" TargetMode="External"/><Relationship Id="rId5" Type="http://schemas.openxmlformats.org/officeDocument/2006/relationships/image" Target="../media/image30.jpe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8.gif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4000" y="1844280"/>
            <a:ext cx="8496000" cy="1755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隶书"/>
                <a:ea typeface="隶书"/>
              </a:rPr>
              <a:t>为了忘却的纪念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1279800" y="457200"/>
            <a:ext cx="261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汶川地震前的自然美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汶川地震前的自然美景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都江堰宝瓶口2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5300961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羌族萝卜寨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31708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8381880" y="-1440"/>
            <a:ext cx="1524240" cy="69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地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53272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8501760" y="-864720"/>
            <a:ext cx="789840" cy="83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航拍的地震后汶川县映秀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0" y="3141720"/>
            <a:ext cx="9144000" cy="764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生命是那么的脆弱，瞬间就消失无踪，让人心痛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…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3342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-580320" y="1052640"/>
            <a:ext cx="2861640" cy="51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ffff"/>
                </a:solidFill>
                <a:latin typeface="Arial"/>
                <a:ea typeface="迷你简启体"/>
              </a:rPr>
              <a:t>心祭汶川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-360" y="5805360"/>
            <a:ext cx="8915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在这场突如其来的地震灾难中，人们的心就如同这个道路一样，已经碎的七零八落！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80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2511360" y="103320"/>
            <a:ext cx="74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学校被震成一片废墟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0" y="5805360"/>
            <a:ext cx="738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重庆上万学生露宿操场躲避余震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9280" y="6092640"/>
            <a:ext cx="815364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来不及长大的孩子永远留在了这片土地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559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8232480" y="-739440"/>
            <a:ext cx="911520" cy="83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</a:rPr>
              <a:t>遇难和失踪学生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5335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</a:rPr>
              <a:t>名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853272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06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96202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019808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0" y="3499920"/>
            <a:ext cx="91440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天灾毁坏了一扇门，但却为人间大爱打开了一扇窗。让我们释放出更多能量，让人世间一切美好的感情，阳光般洒满房间里的每一个角落。这一刻，我们众志成城；这一刻，我们在一起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6560" y="2349000"/>
            <a:ext cx="8229600" cy="1143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Arial"/>
                <a:ea typeface="楷体_GB2312"/>
              </a:rPr>
              <a:t>大爱无疆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[十佳版面]真情天下--情牵天下你我她&#13;&#10;">
            <a:hlinkClick r:id="rId1"/>
          </p:cNvPr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0" y="338040"/>
            <a:ext cx="9144000" cy="651996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395280" y="0"/>
            <a:ext cx="8353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大灾大难方显大仁大义，危难之时给我们流下无数感动。在这场自然灾难面前，涌现出无数最可爱的人。他们的行动足够感动我们每一个人，感动整个中国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0" y="3686040"/>
            <a:ext cx="5600880" cy="31719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4381560" y="3048120"/>
            <a:ext cx="4762440" cy="380988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4780080" y="1197000"/>
            <a:ext cx="4363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生命又是那样的坚韧，让人肃然起敬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0" y="1219320"/>
            <a:ext cx="4427640" cy="328932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524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 u="sng">
                <a:solidFill>
                  <a:srgbClr val="009999"/>
                </a:solidFill>
                <a:uFillTx/>
                <a:latin typeface="Arial"/>
              </a:rPr>
              <a:t>灾难面前的坚强让我们感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16360" cy="38019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284720" y="0"/>
            <a:ext cx="3714840" cy="49528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3505320" y="3716280"/>
            <a:ext cx="4464000" cy="31417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0" y="2286000"/>
            <a:ext cx="3886200" cy="45720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8233920" y="762120"/>
            <a:ext cx="7290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99"/>
                </a:solidFill>
                <a:latin typeface="Garamond"/>
              </a:rPr>
              <a:t>温总理在灾区第一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>
            <a:alphaModFix amt="41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52760" y="0"/>
            <a:ext cx="723024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汶川一月大事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2008.5.12-6.12</a:t>
            </a: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560240" y="2131920"/>
            <a:ext cx="58204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05.12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确认死亡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8533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　　关键词：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级强震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05.13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确认死亡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1.2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万人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　　关键词：部队进入汶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05.14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确认死亡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14866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人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　　关键词：大军进入受灾县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250560" y="475920"/>
            <a:ext cx="381636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  <a:ea typeface="黑体"/>
              </a:rPr>
              <a:t>记者等新闻媒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  <a:ea typeface="黑体"/>
              </a:rPr>
              <a:t>工作人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真的要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感谢他们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没有他们，我们无法及时了解到灾区真实的情况；没有他们，远离灾区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995640" y="404640"/>
            <a:ext cx="4753080" cy="403236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250920" y="4581360"/>
            <a:ext cx="842472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人们就无法及时准确地开展救助活动；没有他们，我们也就看不到救灾过程中那惊心动魄的一幕幕；没有他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·····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0"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3995280" y="404640"/>
            <a:ext cx="482436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3333ff"/>
                </a:solidFill>
                <a:latin typeface="黑体"/>
                <a:ea typeface="黑体"/>
              </a:rPr>
              <a:t>医务工作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此次抗震救灾过程中，还有一股力量是值得称颂的，他们就是我们的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白衣天使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在前沿，他们冒着生命危险及时救助重伤人员，在后方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671640" cy="33894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611280" y="3716280"/>
            <a:ext cx="813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他们几个昼夜不曾合眼，因为需要他们医治的伤员时时都在期待着他们。在他们中间有一股力量特别值得赞扬，那就是震区的妇产科医生护士们，是她们在这个暗夜难眠的时刻将一个个新的生命带到了人间，让我们在黑天昏地中看到了希望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0">
    <p:checker dir="ver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0" y="692280"/>
            <a:ext cx="4859280" cy="34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3333ff"/>
                </a:solidFill>
                <a:latin typeface="黑体"/>
                <a:ea typeface="黑体"/>
              </a:rPr>
              <a:t>武警消防解放军战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哪里有危险哪里就有我们的武警消防解放军战士，从年初的南方大雪灾，在汶川的大震灾，我们都能看见他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4932360" y="334800"/>
            <a:ext cx="3887640" cy="352908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430200" y="4005360"/>
            <a:ext cx="871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熟悉而又陌生的身影。是他们在最危难的时刻，弃生命于不顾，以人民利益为最高利益，奔赴在最前线，他们用实际行动诠释了当代和平年代最可爱的人的光辉形象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107640" y="620280"/>
            <a:ext cx="50418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3333ff"/>
                </a:solidFill>
                <a:latin typeface="黑体"/>
                <a:ea typeface="黑体"/>
              </a:rPr>
              <a:t>平民英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在此次抗震救灾的过程中，涌现出大量的平民英雄，没有人知晓他们的名字、他们的身份，但他们却勇敢的奔赴救灾最前沿，用实际行动在灾区镌刻着“大爱”两个字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5003640" y="404640"/>
            <a:ext cx="3748320" cy="38880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79280" y="4437000"/>
            <a:ext cx="864072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据悉，在汶川发生地震后，当地很多出租车司机以及很多私家车主纷纷无偿投入到救灾激流中，用平民本色演绎着人间真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0"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24000" y="620280"/>
            <a:ext cx="8362800" cy="550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人民教师谭千秋：用生命作支撑，舍身护生的教导主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在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日发生的四川汶川大地震中，德阳东汽中学教师谭千秋为了保护四位学生献出了自己宝贵的生命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　“地动山摇。他弓着身子，张开双臂紧紧地趴在课桌上，伴着雷鸣般的响声，冰雹般的砖瓦、灰尘、树木纷纷坠落到他的头上、手上、背上，热血顿时奔涌而出；他咬着牙，拼命地撑住课桌，如同一只护卫小鸡的母鸡，他的身下蜷伏着四个幸存的学生，而他张开守护翅膀的身躯定格为永恒……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16572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324000" y="6216480"/>
            <a:ext cx="856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日张关蓉在擦拭丈夫谭千秋的遗体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178920" y="188640"/>
            <a:ext cx="8713800" cy="633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当汶川县映秀镇的群众徒手搬开垮塌的镇小学教学楼的一角时，被眼前的一幕惊呆了：一名男子跪仆在废墟上，双臂紧紧搂着两个孩子，两个孩子还活着，而他已经气绝！由于紧抱孩子的手臂已经僵硬，救援人员只得含泪将之锯掉才把孩子救出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这就是该校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29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岁的老师张米亚。“摘下我的翅膀，送给你飞翔。”多才多艺、最爱唱歌的张米亚老师用生命诠释了这句歌词，用血肉之躯为他的学生牢牢把守住了生命之门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755640" y="44280"/>
            <a:ext cx="7128000" cy="511344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179280" y="5445000"/>
            <a:ext cx="8785440" cy="58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人民教师张米亚：“摘下我的翅膀，送给你飞翔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516720" cy="6858000"/>
          </a:xfrm>
          <a:prstGeom prst="rect">
            <a:avLst/>
          </a:prstGeom>
          <a:ln w="0">
            <a:noFill/>
          </a:ln>
        </p:spPr>
      </p:pic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478560" y="0"/>
            <a:ext cx="26654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“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你是纯爷们，你妻子嫁你嫁对了。”还有网友为之赋诗，“娶妻入门背进门，同命相连送君尘。欲哭无泪心流血，单车无助送归程。”更多的网友用朴素而真挚的言语来表达情感，“很久没有流过眼泪了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这张照片让我痛哭，</a:t>
            </a:r>
            <a:br>
              <a:rPr sz="2400"/>
            </a:b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丈夫是妻子一生的守护神！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>
            <a:alphaModFix amt="41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595520" y="66600"/>
            <a:ext cx="5357160" cy="67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05.15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确认死亡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9509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人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　　关键词：生命通道打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05.16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确认死亡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1577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人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　　关键词：救人仍是核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05.17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确认死亡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8881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人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　　关键词：堰塞湖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05.18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确认死亡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32476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人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　　关键词：设立全国哀悼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05.19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确认死亡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34073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人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　　关键词：举国哀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755640" y="0"/>
            <a:ext cx="8388360" cy="685800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-605520" y="260280"/>
            <a:ext cx="1399320" cy="659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ahoma"/>
                <a:ea typeface="黑体"/>
              </a:rPr>
              <a:t>如此的坚强，希望在他们身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-9730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</a:rPr>
              <a:t>那个向士兵“敬礼”的朗铮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156000" y="475920"/>
            <a:ext cx="2987640" cy="63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小年纪就知道感恩的孩子，一只胳膊骨折，脸上沾满血污，可纯净清澈的眼神却令人如此难忘。有人说他敬的军礼，有人说他敬的队礼，他只是千万个灾难中孩子的缩影，面对大灾大难，他们坚强地令人吃惊，令人心痛，更令人佩服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907920"/>
            <a:ext cx="6516720" cy="59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76720" y="-360"/>
            <a:ext cx="406728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最伟大的男子汉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岁的脊梁担起了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父亲的责任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932360" y="1412640"/>
            <a:ext cx="4392720" cy="52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日下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点，记者在北川发现一个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11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少年背着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岁半的妹妹，非常吃力地走着。同行的爷爷、奶奶已经老了，父母在外打工，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张吉万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就勇敢地担负起小男子汉的责任。早上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点出发，已经走了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个小时了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983120" cy="66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看完路透社发的地震图片，心在流血！[图]"/>
          <p:cNvPicPr/>
          <p:nvPr/>
        </p:nvPicPr>
        <p:blipFill>
          <a:blip r:embed="rId1"/>
          <a:stretch/>
        </p:blipFill>
        <p:spPr>
          <a:xfrm>
            <a:off x="0" y="0"/>
            <a:ext cx="9144000" cy="567684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0" y="6021360"/>
            <a:ext cx="88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Tahoma"/>
                <a:ea typeface="黑体"/>
              </a:rPr>
              <a:t>希望在伤痕累累还挑灯夜读的小女孩身上</a:t>
            </a:r>
            <a:r>
              <a:rPr b="1" lang="en-US" sz="3200" spc="-1" strike="noStrike">
                <a:solidFill>
                  <a:srgbClr val="009999"/>
                </a:solidFill>
                <a:latin typeface="Tahoma"/>
                <a:ea typeface="黑体"/>
              </a:rPr>
              <a:t>-----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-181080" y="15840"/>
            <a:ext cx="9325080" cy="692784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179280" y="3500280"/>
            <a:ext cx="2448000" cy="29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这是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5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月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16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日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拍摄的四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省绵竹市汉旺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东汽中学发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现场的一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――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一名死难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生手里紧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攥着一支笔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-252360" y="189000"/>
            <a:ext cx="3672000" cy="3168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握在手中的不仅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是一支笔，更是一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梦想！可怜的孩子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恐怖的灾难把这个美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充满憧憬的梦想给毁了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这是向命运抗争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一只手啊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11280" y="2781000"/>
            <a:ext cx="8229600" cy="1143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Arial"/>
                <a:ea typeface="楷体_GB2312"/>
              </a:rPr>
              <a:t>大爱无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179280" y="477360"/>
            <a:ext cx="8785440" cy="565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母亲，一个熟识亲切的名字，那是我们都有自己的母亲；母亲， 是平凡的， 母亲，也是伟大的 。世上有多少的母亲，天下就有多少感人的故事。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日，我国发生了地崩山摇的汶川大地震。在这国难家难来临之际，许多母亲没了儿女，许多儿女没了母亲。虽然人类在大自然面前显得渺小，但是生命的顽强也可感天动地。在地震现场，就有三位无私、无畏、博爱的母亲，她们的故事最美丽、最感人，她们是世上最伟大的母亲，值得我们尊敬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0" y="0"/>
            <a:ext cx="896472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日下午，都江堰河边一处坍塌的民宅，数十救援人员奋力挖掘，寻找幸存者。突然，一个令人震惊的场景出现在人们眼前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名年轻的妈妈双手怀抱着一个三、四个月大的婴儿蜷缩在废墟中，她低着头，上衣向上掀起，已经失去了呼吸，怀里的女婴依然惬意地含着母亲的乳头，正在不停地吮吸，红扑扑的小脸与母亲粘满灰尘的双乳，紧紧地贴在一起，形成了鲜明的对比。当人们小心地将女婴抱起，离开母亲的乳头时，娃娃立刻大哭起来。看到女婴的反应，在场者无不掩面悲恸。“我无法想象，一个死去的妈妈还在为自己的孩子喂奶，从母亲抱孩子的姿势可以看出，她是很刻意地在保护自己的孩子，或许就是在临死前，她把乳头放进了女儿的嘴里。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8240400" y="365040"/>
            <a:ext cx="72900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用自己的身体为孩子撑起生命的天空。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屏幕上有一条妈妈留给娃娃的短信“亲爱的宝贝，如果你能活着，一定要记住我爱你。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58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084720" cy="68580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064200" y="281160"/>
            <a:ext cx="307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照片中的女警蒋小娟用甜美的乳汁喂哺遭受劫难的娃娃，没有丝毫的犹豫，所有一切都是那么的自然，那么的顺理成章！蒋小娟义务为一些急需哺乳的地震灾区孤儿喂奶，却把自己才六个月、同样需要母乳喂养的孩子交给父母照料，这是天下母亲的大爱 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>
            <a:alphaModFix amt="41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866960" y="115920"/>
            <a:ext cx="4881600" cy="67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05.20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确认死亡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0075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人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　　关键词：余震再次伤四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05.2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确认死亡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1353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人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关键词：救灾面临三大威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余震、堰塞湖、疫情威胁救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05.2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确认死亡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5115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人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　　关键词：北川封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05.23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确认死亡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55740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人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　　关键词：多难兴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05.24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确认死亡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60560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人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　　关键词：废墟上的发布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1">
            <a:alphaModFix amt="41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250920" y="0"/>
            <a:ext cx="8640720" cy="704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孩子快抓住妈妈的手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》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——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献给在四川大地震中遇难的孩子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孩子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快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抓紧妈妈的手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去天堂的路太黑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我看不见你的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自从倒塌的墙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把阳光夺走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我再也看不见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你柔情的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43280" y="1647720"/>
            <a:ext cx="4753080" cy="52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孩子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你走吧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前面的路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再也没有忧愁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没有读不完的课本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和交不完的答卷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你要记住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我和爸爸的模样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来生还要一起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8532720" y="6308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restart="whenNotActive" nodeType="interactiveSeq" fill="hold">
                <p:stCondLst>
                  <p:cond evt="onClick">
                    <p:tgtEl>
                      <p:spTgt spid="171"/>
                    </p:tgtEl>
                  </p:cond>
                </p:stCondLst>
                <p:childTnLst>
                  <p:par>
                    <p:cTn id="37" fill="hold">
                      <p:stCondLst>
                        <p:cond evt="onClick">
                          <p:tgtEl>
                            <p:spTgt spid="171"/>
                          </p:tgtEl>
                        </p:cond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" dur="116474" fill="hold"/>
                                        <p:tgtEl>
                                          <p:spTgt spid="1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>
            <a:alphaModFix amt="41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395280" y="260280"/>
            <a:ext cx="4464000" cy="668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妈妈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别担忧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天堂的路有些挤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有很多同学朋友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我们说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不哭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哪一个人的妈妈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都是我们的妈妈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那一个孩子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都是妈妈的孩子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没有我的日子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你把爱给别的孩子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076720" y="404640"/>
            <a:ext cx="3672000" cy="57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妈妈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你别哭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泪光照亮不了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我们的路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让我们自己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慢慢走吧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妈妈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我会记住你和爸爸的模样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记住我们的约定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来生一起走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8604360" y="63086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restart="whenNotActive" nodeType="interactiveSeq" fill="hold">
                <p:stCondLst>
                  <p:cond evt="onClick">
                    <p:tgtEl>
                      <p:spTgt spid="177"/>
                    </p:tgtEl>
                  </p:cond>
                </p:stCondLst>
                <p:childTnLst>
                  <p:par>
                    <p:cTn id="43" fill="hold">
                      <p:stCondLst>
                        <p:cond evt="onClick">
                          <p:tgtEl>
                            <p:spTgt spid="177"/>
                          </p:tgtEl>
                        </p:cond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" dur="116474" fill="hold"/>
                                        <p:tgtEl>
                                          <p:spTgt spid="1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360" y="2276280"/>
            <a:ext cx="8229600" cy="1143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人性的光辉穿越了灾难的阴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-324000" y="333360"/>
            <a:ext cx="9468000" cy="65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感悟之一：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学会珍惜生命，首先要学会爱，学会关怀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爱“是一种责任，”“关怀”是一种行动，是我们了解和懂得他人的最重要的一步。在日常生活中，我们不仅要善待关爱自己的父母、孩子、朋友，同事，而且要学会关注陌生人的精神生活，去关怀所有的人，关注所有的生命。如果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因自己的存在让别人感觉到了幸福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，那我们自己也一定是坦然而幸福的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-252720" y="333360"/>
            <a:ext cx="939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感悟之二：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用人性的光芒照亮和温暖我们的心灵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现在的人现实、功利、缺少爱心和奉献精神。那些奋战在废墟中忘我救人的人民子弟兵，那些坚强团结的灾区人民，以及八零后出生的年轻的一代的爱国热情，都使我们看到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人性的光辉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在熠熠闪光。是这场劫难触动震撼了我们的灵魂，是这些逝去的亲人唤醒了我们，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让沉睡的心灵迸发出人性的光芒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。其实，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人性中所有的美好都隐藏在我们心灵的深处。我们能够活得高尚，活得坚强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-360" y="404280"/>
            <a:ext cx="889308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感悟之三：这场大地震，使我们蒙受巨大损失的同时，也拥有了一份沉甸甸的浸血的收获。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人性之光在这场劫难中得到弘扬和彰显，爱国主义情感和民族凝聚力得到空前高涨和增强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经历了这场磨难，一些被我们淡忘的可贵的精神和品质，重新占据了思想和心灵，那就是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爱，信仰，忠诚，奉献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。使我们明白：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生活的道路，有时需要我们两手着地爬行，去攀登，挣扎，搏斗。生活需要这种奋争的精神，只有奋争，我们的国家和民族才有希望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358920" y="836280"/>
            <a:ext cx="860580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I'm chinaese!        </a:t>
            </a:r>
            <a:br>
              <a:rPr sz="4000"/>
            </a:b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我是中国人</a:t>
            </a:r>
            <a:r>
              <a:rPr b="1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! 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   </a:t>
            </a:r>
            <a:br>
              <a:rPr sz="4000"/>
            </a:br>
            <a:r>
              <a:rPr b="1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I love my motherland!       </a:t>
            </a:r>
            <a:br>
              <a:rPr sz="4000"/>
            </a:b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我深爱我的祖国！      </a:t>
            </a:r>
            <a:br>
              <a:rPr sz="4000"/>
            </a:b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      </a:t>
            </a:r>
            <a:br>
              <a:rPr sz="4000"/>
            </a:br>
            <a:r>
              <a:rPr b="1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We will make seismic victory!      </a:t>
            </a:r>
            <a:br>
              <a:rPr sz="4000"/>
            </a:b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我们一定会取得抗震救灾胜利的！     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5724360" y="404640"/>
            <a:ext cx="3089520" cy="2318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1"/>
          <a:srcRect l="0" t="12899" r="0" b="0"/>
          <a:stretch/>
        </p:blipFill>
        <p:spPr>
          <a:xfrm>
            <a:off x="0" y="0"/>
            <a:ext cx="9144000" cy="127620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611280" y="3628080"/>
            <a:ext cx="7777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黑体"/>
              </a:rPr>
              <a:t>       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  <a:ea typeface="黑体"/>
              </a:rPr>
              <a:t>同学们：我们的同胞正在受难！伸出你的手，伸出我的手，伸出大家的手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黑体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  <a:ea typeface="黑体"/>
              </a:rPr>
              <a:t>让爱心帮助灾区同胞渡过难关，让爱心减轻祖国母亲的伤痛，让爱心铸就中华民族坚强的中国魂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84360" y="1773360"/>
            <a:ext cx="777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黑体"/>
                <a:ea typeface="黑体"/>
              </a:rPr>
              <a:t>5.12</a:t>
            </a: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汶川大地震  爱心捐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108000" y="44280"/>
            <a:ext cx="8712000" cy="678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>
            <a:alphaModFix amt="41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1928160" y="66600"/>
            <a:ext cx="5541840" cy="67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05.25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确认死亡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62664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人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　　关键词：青川发生最强余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05.26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确认死亡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65080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人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　　关键词：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万人紧急转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05.27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确认死亡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67183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人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　　关键词：川陕再发强余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05.28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确认死亡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68109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人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　　关键词：灾后重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05.29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确认死亡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68516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人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关键词：调查倒塌校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>
            <a:alphaModFix amt="41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1683720" y="341280"/>
            <a:ext cx="582048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05.30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确认死亡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68858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人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关键词：堰塞湖威胁百万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05.31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确认死亡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68977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人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　　关键词：决战堰塞湖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06.01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确认死亡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69016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人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　　关键词：救灾直升机失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06.03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确认死亡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69107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06.05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确认死亡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69127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>
            <a:alphaModFix amt="41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1111680" y="549360"/>
            <a:ext cx="65296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06.06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确认死亡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69130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人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06.09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确认死亡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69142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人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06.10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确认死亡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69146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人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关键词：失事机找到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堰塞湖抢险成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06.11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确认死亡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69146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人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6560" y="2349000"/>
            <a:ext cx="8229600" cy="1143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Arial"/>
                <a:ea typeface="楷体_GB2312"/>
              </a:rPr>
              <a:t>大灾无情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24T16:15:49Z</dcterms:created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cp:lastPrinted>1899-12-30T00:00:00Z</cp:lastPrinted>
  <dcterms:modified xsi:type="dcterms:W3CDTF">2013-04-13T18:23:36Z</dcterms:modified>
  <cp:revision>20</cp:revision>
  <dc:subject>主题班会课件(分28大类): http://shop62905894.taobao.com</dc:subject>
  <dc:title>主题班会课件(分28大类): http://shop62905894.taobao.com</dc:title>
</cp:coreProperties>
</file>